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DC21-620C-4799-9227-C51C618A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023-A983-417E-B0A4-69C048EB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1CB-CA73-49C9-AB99-AF65333F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5B7-2AC6-4A27-8382-0DE4715C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25F-4A01-4875-84DB-D69DBBAB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B46-75C1-4CAA-8FA4-7B3141E6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BFD-3B82-4FA9-993F-F4C80AE1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EF2-6634-4522-A5E6-8E9D9BDD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91A-C75C-4C08-8E9D-8AC96A96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E16-47C4-41A5-AF64-E155C2CA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B4A-BF8E-4C8D-8F6F-0FD72D49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FB7-4B6C-4FFD-B0AE-69E32339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0C02-CD4F-4633-BF6F-9CDEAFB35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Rs of Copyright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 on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the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thical judg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e the three 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2173320"/>
            <a:ext cx="380988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who owns the rights to the information and the conditions of its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ect the people who invested the time and energy to develop and report the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n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and abide by copyright law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 if you think you would never get cau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3T16:53:31Z</dcterms:created>
  <dc:creator>Connie Morrison</dc:creator>
  <dc:description/>
  <dc:language>en-US</dc:language>
  <cp:lastModifiedBy>Julie Hotchkiss</cp:lastModifiedBy>
  <dcterms:modified xsi:type="dcterms:W3CDTF">2004-09-22T20:20:17Z</dcterms:modified>
  <cp:revision>5</cp:revision>
  <dc:subject/>
  <dc:title>The Three Rs of Copyright Law</dc:title>
</cp:coreProperties>
</file>